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  <p:custShowLst>
    <p:custShow name="Chapter" id="0">
      <p:sldLst>
        <p:sld r:id="rId8"/>
        <p:sld r:id="rId7"/>
        <p:sld r:id="rId9"/>
        <p:sld r:id="rId10"/>
        <p:sld r:id="rId11"/>
        <p:sld r:id="rId12"/>
        <p:sld r:id="rId3"/>
      </p:sldLst>
    </p:custShow>
    <p:custShow name="ELI Sect 1" id="1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</p:sldLst>
    </p:custShow>
    <p:custShow name="ELI STP" id="2">
      <p:sldLst>
        <p:sld r:id="rId4"/>
        <p:sld r:id="rId6"/>
      </p:sldLst>
    </p:custShow>
    <p:custShow name="Transparencies" id="3">
      <p:sldLst>
        <p:sld r:id="rId3"/>
      </p:sldLst>
    </p:custShow>
    <p:custShow name="Chapter menu" id="4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earth_sci_cont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28600" y="572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ources an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7238880" y="76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1">
            <a:hlinkClick r:id="" action="ppaction://hlinkshowjump?jump=previousslide"/>
          </p:cNvPr>
          <p:cNvSpPr/>
          <p:nvPr/>
        </p:nvSpPr>
        <p:spPr>
          <a:xfrm>
            <a:off x="4829040" y="6172200"/>
            <a:ext cx="782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2">
            <a:hlinkClick r:id="" action="ppaction://hlinkshowjump?jump=nextslide"/>
          </p:cNvPr>
          <p:cNvSpPr/>
          <p:nvPr/>
        </p:nvSpPr>
        <p:spPr>
          <a:xfrm>
            <a:off x="5838840" y="6172200"/>
            <a:ext cx="809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>
            <a:hlinkClick r:id="" action="ppaction://hlinkshowjump?jump=firstslide"/>
          </p:cNvPr>
          <p:cNvSpPr/>
          <p:nvPr/>
        </p:nvSpPr>
        <p:spPr>
          <a:xfrm>
            <a:off x="6886440" y="6172200"/>
            <a:ext cx="982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4">
            <a:hlinkClick r:id="" action="ppaction://hlinkshowjump?jump=endshow"/>
          </p:cNvPr>
          <p:cNvSpPr/>
          <p:nvPr/>
        </p:nvSpPr>
        <p:spPr>
          <a:xfrm>
            <a:off x="8048520" y="6172200"/>
            <a:ext cx="849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ction 1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neral Resourc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28760" y="1498680"/>
            <a:ext cx="8410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eral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 of Mineral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eral Exploration and M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rmation of Ores and Placer Depos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ing Metals, Nonmetals, and Metallo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ineral Exploration and Mining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369800"/>
            <a:ext cx="8410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ubsurface M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Aft>
                <a:spcPts val="5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bsurface mining mines for minerals located below Earth’s surfa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urface M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Aft>
                <a:spcPts val="5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rface mining strips overlying rock material to reveal mineral deposits that are located close to Earth’s surfa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lacer M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Aft>
                <a:spcPts val="5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acer mining scoop up and separate the sediment from placer deposits to search for mineral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Undersea M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Aft>
                <a:spcPts val="52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Arial"/>
              </a:rPr>
              <a:t>Nodules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re lumps of minerals on the deep ocean floor. However, because of their location, these deposits are difficult to mine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9" descr=""/>
          <p:cNvPicPr/>
          <p:nvPr/>
        </p:nvPicPr>
        <p:blipFill>
          <a:blip r:embed="rId1"/>
          <a:stretch/>
        </p:blipFill>
        <p:spPr>
          <a:xfrm>
            <a:off x="4572000" y="3124080"/>
            <a:ext cx="4114800" cy="1965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2"/>
          <a:stretch/>
        </p:blipFill>
        <p:spPr>
          <a:xfrm>
            <a:off x="609480" y="3048120"/>
            <a:ext cx="3810240" cy="25700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Formation of Ores and Placer Deposit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8120" y="1946160"/>
            <a:ext cx="84009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how ores form in placer deposi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ores are and how they for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dentify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uses for mineral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ummar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ways humans obtain mineral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ineral Resourc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eral resources can be eithe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tals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uch as gold, U, silver, Ag, and aluminum, Al, 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nmeta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such as sulfur, S, and quartz, Si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e identified by their shiny surfaces, as good conductors of heat and electricity, and they tend to bend easily when in thin she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nonmetals have a dull surface and are poor conductors of heat and electrici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684000"/>
            <a:ext cx="7797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r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r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ic minerals such as gold, silver, and copper, Cu, are called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native elemen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can exist in Earth’s crust as nuggets of pure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other minerals in Earth’s crust ar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ompoun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wo or more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re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res Formed by Cooling Mag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ores, such as chromium, Cr; and nickel, Ni, form as the magma cools and the dense metallic minerals sink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the minerals sink, layers of these minerals accumulate at the bottom of the magma chamber to form ore deposi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res Formed by Contact Metamorph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od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re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383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res Formed by Contact Metamorphism,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Heat and chemical reactions with hot fluids from the magma can change the composition of the surrounding rock. This process is called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ome ores, such as copper, Cu; and zinc, Zn, form by </a:t>
            </a:r>
            <a:r>
              <a:rPr b="0" i="1" lang="en-US" sz="2300" spc="-1" strike="noStrike">
                <a:solidFill>
                  <a:srgbClr val="ff0000"/>
                </a:solidFill>
                <a:latin typeface="Arial"/>
              </a:rPr>
              <a:t>contact metamorphism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Contact metamorphism also occurs when hot fluids called </a:t>
            </a:r>
            <a:r>
              <a:rPr b="0" i="1" lang="en-US" sz="2300" spc="-1" strike="noStrike">
                <a:solidFill>
                  <a:srgbClr val="ff0000"/>
                </a:solidFill>
                <a:latin typeface="Arial"/>
              </a:rPr>
              <a:t>hydrothermal solutions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move through small cracks in a large mass of rock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hen the minerals from the surrounding rock dissolve into the hydrothermal solution, new minerals will precipitate from the solution and form narrow zones of rocks called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veins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re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41032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res Formed by Moving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lacer deposi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vement of water helps to form ore deposi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ny fragments of native elements, such as gold, Au, are released from rock as it breaks down by weather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ams carry the fragments until the currents become too weak to carry these dense metals, which collect in placer deposi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Uses of Mineral Resourc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760" y="14475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gemsto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ic ores are sources of valuable minerals and elements, like gold, Au, platinum, Pt, and silver, A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nonmetallic minerals display extraordinary brilliance and color when they are specially cut for jewel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nonmetallic minerals, such as calcite and gypsum, are used as building materi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ineral Exploration and Mining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mineral exploration, people search for mineral deposits by studying local geolog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oration teams also collect and test rock samples to determine whether the rock contains enough metals to make a mine profi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planes that carry special equipment are used to measure and identify patterns in magnetism, gravity, radioactivity, and rock col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it Rocksund</dc:creator>
  <dc:description/>
  <dc:language>en-US</dc:language>
  <cp:lastModifiedBy>trocksund</cp:lastModifiedBy>
  <cp:lastPrinted>2004-02-20T14:12:55Z</cp:lastPrinted>
  <dcterms:modified xsi:type="dcterms:W3CDTF">2013-12-02T16:38:37Z</dcterms:modified>
  <cp:revision>684</cp:revision>
  <dc:subject/>
  <dc:title>No Slide Title</dc:title>
</cp:coreProperties>
</file>